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1CF-4001-43E7-A3B9-0801D279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509-561C-46F7-873C-4A03F69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137-8AAF-4797-8DF9-3523E22A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E36-3A91-4F4F-8AE5-2E98D564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662C-A43A-4855-97B5-332354AB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A7B4-3F05-4B16-8865-7A001509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FA4-8C7D-482B-85F9-71AF9581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335C-30A0-41BE-9AC9-4DFBFAC3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B052-CAEA-48B6-9D6A-30CB65C7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4C33-012C-4386-92B2-03D5DEFD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4283-4EB0-44DC-ABEA-BD74980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463-1F4A-41D0-92C6-A168073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FD82-E63B-4EC5-8EE9-A82C24F6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A549-7114-4EFA-8D6F-16EE93A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B771-7D3A-46A6-8774-FB2CFAF7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341F-D051-4CFF-83DD-728C31CB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89AC-EC4A-4014-8086-8282EF21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945-8CA7-40AB-9811-8EB1E41E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D91-D7C7-475F-B005-38525D7A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F6F-D0A0-44C7-8160-C6567814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753-5442-4723-89E3-7FC30195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02F-AC0E-4B8F-83AF-14CB14B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31C-15FF-4B8F-86EA-7494821E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CBF-69F4-4C4C-A014-DACC2A3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48E9-8A49-4355-9929-8D803972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A974-6B05-4014-A9B1-0CBFB55F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8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rrogate Par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of Instructional Support and Communit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riteria for Selection of Surrog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blic agency may select a surrogate parent in any way permitted under Stat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lorida L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tudents eligib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suspected of being elig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special programs surrogate shall be appointed by the Superint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ligible for programs made available through a contract, the surrogate shall be appointed by the individual specified in the contr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alifi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an employee of the SEA, the LEA, or any other agency that is involved in the education or care of the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no interest that conflicts with the interest of the child he or she represents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knowledge and skills that ensure adequate representation of th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lorida Law-Qualifi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itizen, resident of Florida and above age of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ppropriately trained using materials developed and approved by the D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 non-employee of local school board or other public agency  involved in care of the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alifi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gate can be an employee of a nonpublic agency that only provides non-educational care for the chi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otherwise qualifies to be a surrogate section is not an employee of the agency solely because he or she is paid by the agency to serve as a surrogate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sponsibi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gate parent may represent the child in all matters relating t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fication, evaluation, and educational placement of the child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vision of FAPE to th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238880" y="4876920"/>
          <a:ext cx="12002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4876920"/>
                    <a:ext cx="12002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sponsibi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gate parent is excluded from areas of care, custody, and identification and evaluation activities not related to 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13540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781680" y="1752480"/>
          <a:ext cx="1089000" cy="417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1752480"/>
                    <a:ext cx="10890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uties of Age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the surrogate parent i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 tr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 with ESE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ly participating in ESE decision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student’s educational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child need a surrogate in my distri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no longer in need of ES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guardian assig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dis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019920" y="4114800"/>
          <a:ext cx="234612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114800"/>
                    <a:ext cx="234612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-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gate no longer wishes to 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ntendent determines that the appointed surrogate no longer adequately represents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mov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rrogate Parent Cites/Inform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 FY 1994-10 Surrogat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6A-6.0333, F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CFR 300.5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grams and Procedures SP&amp;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22360" y="1981080"/>
          <a:ext cx="3309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1981080"/>
                    <a:ext cx="3309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a reference check should be done on surrogate parent applica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inimum, similar to procedures for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 a district pay surrogate parents for representing a chil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135400" y="2027160"/>
          <a:ext cx="381024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2027160"/>
                    <a:ext cx="381024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Bureau done any complaint investigations regarding surrogate parent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corrective actions included assigning surrogates for individual children and revising procedur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xtent of liability of a surrogate paren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gate shall not be held liable for actions taken in good faith on behalf of the child.  Consult your School Board attorney for specific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tudents with disabilities who live with foster parents need surrogate parent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43430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ow it’s time for questions from you!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191120" y="0"/>
          <a:ext cx="394956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394956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t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raining materials or technical assistance papers, contact the Clearinghouse Information Center: 850/245-04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ail: cicbiscs@fldoe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firn.edu/doe/comm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781680" y="5238720"/>
          <a:ext cx="175284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238720"/>
                    <a:ext cx="17528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regulations require that-Each public agency shall ensure that the rights of a child are protected i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181480" y="3954600"/>
          <a:ext cx="2854440" cy="25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954600"/>
                    <a:ext cx="285444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arent (as defined in §300.20) can be ident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blic agency, after reasonable efforts, cannot discover the whereabouts of a paren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is a ward of the State under the laws of that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finition of Parent -Federal Law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or adoptiv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ian (but not the state if child is ward of the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acting in place of parent (such as grandparent with whom the child lives or who is legally responsible for chi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finition of Parent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gat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parent (natural parents’ authority extinguished by state law on-going, long-term parental relationship with child, willing to make educational decisions, has no conflicting inter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finition of Parent- Sta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, any guardian, and any person who is in a parental relationship to a child or who is exercising supervisory authority in place of a parent over a child of public school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uties of Age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uty of a public agency includes the assignment of an individual to act as a surrogate for the pa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4038480"/>
          <a:ext cx="309708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30970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uties of Age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ust include a method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termining whether a child needs a surrogate parent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signing a surrogate parent to th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5:30:58Z</dcterms:created>
  <dc:creator>lewist</dc:creator>
  <dc:description/>
  <dc:language>en-US</dc:language>
  <cp:lastModifiedBy>Margot Palazesi-Dietrich</cp:lastModifiedBy>
  <cp:lastPrinted>2002-07-29T14:45:27Z</cp:lastPrinted>
  <dcterms:modified xsi:type="dcterms:W3CDTF">2003-11-04T13:15:30Z</dcterms:modified>
  <cp:revision>6</cp:revision>
  <dc:subject/>
  <dc:title>Surrogate Par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638167</vt:r8>
  </property>
  <property fmtid="{D5CDD505-2E9C-101B-9397-08002B2CF9AE}" pid="3" name="_AuthorEmail">
    <vt:lpwstr>Kim.Komisar@fldoe.org</vt:lpwstr>
  </property>
  <property fmtid="{D5CDD505-2E9C-101B-9397-08002B2CF9AE}" pid="4" name="_AuthorEmailDisplayName">
    <vt:lpwstr>Komisar, Kim</vt:lpwstr>
  </property>
  <property fmtid="{D5CDD505-2E9C-101B-9397-08002B2CF9AE}" pid="5" name="_EmailSubject">
    <vt:lpwstr/>
  </property>
</Properties>
</file>